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D2A0B-BBD6-440F-B1C3-22EC4A72B3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78422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90720" y="4416840"/>
            <a:ext cx="78422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A1CA6-CBA1-4D7B-A74D-B3F48D30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9072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0940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2531C-43C7-485E-B7B6-A03A1849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42480" y="181116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94240" y="181116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90720" y="441684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42480" y="441684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94240" y="4416840"/>
            <a:ext cx="25250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AFAD0-C352-40DE-B8E3-A66C7CBAFF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EB768-CCD1-4DD6-8D96-CAC6A1B5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0E43E-5F3B-4866-BC7E-C321EED4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B829A-FFA4-4EAF-8A7B-38084C7E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A2536-8023-40EC-8977-EC5FF51CB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90720" y="-214200"/>
            <a:ext cx="7842240" cy="107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B45D-FCAC-4BCE-9BFC-3403F362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9072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BDE36-F8E5-4EBD-B36E-CCB0D21F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09400" y="441684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60804-C1AA-4EB6-B14A-CA716884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9072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09400" y="1811160"/>
            <a:ext cx="382680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90720" y="4416840"/>
            <a:ext cx="7842240" cy="23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4096B-5FA6-4CCF-A00B-97AA00A9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5700" spc="-1" strike="noStrike">
                <a:solidFill>
                  <a:srgbClr val="2e3917"/>
                </a:solidFill>
                <a:latin typeface="Calibri"/>
              </a:rPr>
              <a:t>Click to edit the title text format</a:t>
            </a: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1" marL="743040" indent="-28584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2" marL="1143000" indent="-22860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3" marL="1600200" indent="-228600">
              <a:spcBef>
                <a:spcPts val="887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4" marL="2057400" indent="-22860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5" marL="2057400" indent="-22860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lvl="6" marL="2057400" indent="-228600">
              <a:spcBef>
                <a:spcPts val="887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4f6228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5240"/>
            <a:ext cx="23511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3400" y="7005600"/>
            <a:ext cx="31924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22680" y="7005240"/>
            <a:ext cx="2351160" cy="4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C8506F-A74F-4C7E-BEB5-97A3456DC66E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55280" y="-18000"/>
            <a:ext cx="828036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пределите тему и основную мысль стихотворения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890720" y="1403280"/>
            <a:ext cx="819000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И составили братья азбуку,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marL="305280" indent="-3052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Сорок три сочинили буквицы,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marL="305280" indent="-3052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Чтоб учились славяне грамоте,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marL="305280" indent="-3052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Чтоб услышали слово книжное,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marL="305280" indent="-3052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И чтоб все племена словенские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marL="305280" indent="-3052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Светом разума просветилися.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marL="305280" indent="-3052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Имена же своих учителей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marL="305280" indent="-3052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Не забыли народы словенские. 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marL="305280" indent="-3052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Чтят Кирилла и  чтят Мефодия, 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marL="305280" indent="-3052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Всенародных своих просветителей!</a:t>
            </a:r>
            <a:endParaRPr b="0" lang="en-US" sz="2000" spc="-1" strike="noStrike">
              <a:solidFill>
                <a:srgbClr val="4f6228"/>
              </a:solidFill>
              <a:latin typeface="Calibri"/>
            </a:endParaRPr>
          </a:p>
          <a:p>
            <a:pPr marL="305280" indent="-3052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rgbClr val="4f6228"/>
                </a:solidFill>
                <a:latin typeface="Calibri"/>
              </a:rPr>
              <a:t>(отрывок из стихотворения Нонны Журавлевой- Гросс «Былина о Кирилле и </a:t>
            </a: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Мефодии»)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052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чем мы будем говорить сегодня на уроке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43" name="Picture 8" descr="http://www.vestikavkaza.ru/upload/fnorm/iblock/2bb/del04-15.jpg"/>
          <p:cNvPicPr/>
          <p:nvPr/>
        </p:nvPicPr>
        <p:blipFill>
          <a:blip r:embed="rId1"/>
          <a:stretch/>
        </p:blipFill>
        <p:spPr>
          <a:xfrm>
            <a:off x="6335640" y="1332000"/>
            <a:ext cx="3429000" cy="2361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90720" y="1351080"/>
            <a:ext cx="784224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82" name="Рисунок 3" descr="http://ic1.static.km.ru/sites/default/files/01_poslanie_0.jpg"/>
          <p:cNvPicPr/>
          <p:nvPr/>
        </p:nvPicPr>
        <p:blipFill>
          <a:blip r:embed="rId1"/>
          <a:stretch/>
        </p:blipFill>
        <p:spPr>
          <a:xfrm>
            <a:off x="1897200" y="1279440"/>
            <a:ext cx="7643520" cy="5715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700" spc="-1" strike="noStrike">
                <a:solidFill>
                  <a:srgbClr val="2e3917"/>
                </a:solidFill>
                <a:latin typeface="Calibri"/>
              </a:rPr>
              <a:t>Азбука</a:t>
            </a: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700" spc="-1" strike="noStrike">
                <a:solidFill>
                  <a:srgbClr val="2e3917"/>
                </a:solidFill>
                <a:latin typeface="Calibri"/>
              </a:rPr>
              <a:t>Кириллица- послание.</a:t>
            </a: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90720" y="1564920"/>
            <a:ext cx="7842240" cy="52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Я знаю буквы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Письмо – это достояние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Трудитесь усердно, земляне, 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Как подобает разумным людям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Постигайте мироздание!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Несите слово убежденно: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Знание- дар Божий!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Дерзайте, вникайте, чтобы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Сущего свет постичь!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57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397240" y="1811160"/>
            <a:ext cx="657216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500" spc="-1" strike="noStrike">
                <a:solidFill>
                  <a:srgbClr val="4f6228"/>
                </a:solidFill>
                <a:latin typeface="Calibri"/>
              </a:rPr>
              <a:t>Продолжите предложение </a:t>
            </a:r>
            <a:r>
              <a:rPr b="0" i="1" lang="ru-RU" sz="3500" spc="-1" strike="noStrike">
                <a:solidFill>
                  <a:srgbClr val="4f6228"/>
                </a:solidFill>
                <a:latin typeface="Calibri"/>
              </a:rPr>
              <a:t>Подвиг- это….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500" spc="-1" strike="noStrike">
                <a:solidFill>
                  <a:srgbClr val="4f6228"/>
                </a:solidFill>
                <a:latin typeface="Calibri"/>
              </a:rPr>
              <a:t>- Что объединяет тему урока и эпиграф к нему? 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41520" y="-108360"/>
            <a:ext cx="853920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Подводим  итоги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38360" y="971640"/>
            <a:ext cx="8424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вейн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тему </a:t>
            </a: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«Синквейн» по теме «Подвиг Кирилла и Мефодия» или «Просветители Кирилл и Мефодий».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1520" y="-396720"/>
            <a:ext cx="85392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6165d"/>
              </a:solidFill>
              <a:latin typeface="Monotype Corsi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55640" y="611280"/>
            <a:ext cx="87854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машнее задание на выбор.</a:t>
            </a:r>
            <a:endParaRPr b="0" lang="en-US" sz="24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Напишите сочинение – миниатюру на тему «Почему деятельность Кирилла и Мефодия можно назвать подвигом»? 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2. Как я понимаю цитату  «Имена же своих учителей не забыли народы словенские»? (письменный ответ на вопрос)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http://clipartix.com/wp-content/uploads/2016/05/Man-thinking-clip-art-illustration-illustrations-by-leo-clipartcow-2.jpg"/>
          <p:cNvPicPr/>
          <p:nvPr/>
        </p:nvPicPr>
        <p:blipFill>
          <a:blip r:embed="rId1"/>
          <a:stretch/>
        </p:blipFill>
        <p:spPr>
          <a:xfrm>
            <a:off x="7486560" y="4994280"/>
            <a:ext cx="2627280" cy="2565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00000" y="-252360"/>
            <a:ext cx="828036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6165d"/>
              </a:solidFill>
              <a:latin typeface="Monotype Corsiv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55280" y="826920"/>
            <a:ext cx="842508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- 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Закончите высказывания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Я не знал…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Теперь я знаю…; 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Сегодня я понял…;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Мне особенно понравилось…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1520" y="-396720"/>
            <a:ext cx="85392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16165d"/>
              </a:solidFill>
              <a:latin typeface="Monotype Corsiv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55640" y="611280"/>
            <a:ext cx="878544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сегодня очень хорошо потрудились!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!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97" name="Picture 2" descr="http://www.cdpprofi.ru/datas/dictionary/dictionary.jpg"/>
          <p:cNvPicPr/>
          <p:nvPr/>
        </p:nvPicPr>
        <p:blipFill>
          <a:blip r:embed="rId1"/>
          <a:stretch/>
        </p:blipFill>
        <p:spPr>
          <a:xfrm>
            <a:off x="1800360" y="3273480"/>
            <a:ext cx="8067600" cy="2676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55280" y="-18000"/>
            <a:ext cx="828036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Обратимся к эпиграфу нашего урока 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96880" y="1403280"/>
            <a:ext cx="67863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«Столь много было ими сделано, столь великие подвиги они совершили».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spcBef>
                <a:spcPts val="88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4f6228"/>
                </a:solidFill>
                <a:latin typeface="Calibri"/>
              </a:rPr>
              <a:t>Какие вопросы возникают, когда читаем это высказывание о братьях Кирилле и Мефодии?</a:t>
            </a: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  <a:p>
            <a:pPr marL="343080" indent="0">
              <a:spcBef>
                <a:spcPts val="887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5200" y="1993680"/>
            <a:ext cx="75726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Тема урока: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«</a:t>
            </a:r>
            <a:r>
              <a:rPr b="1" lang="ru-RU" sz="4800" spc="-1" strike="noStrike">
                <a:solidFill>
                  <a:srgbClr val="2e3917"/>
                </a:solidFill>
                <a:latin typeface="Calibri"/>
              </a:rPr>
              <a:t>Кирилл и Мефодий – великие просветители славян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   </a:t>
            </a:r>
            <a:br>
              <a:rPr sz="5400"/>
            </a:br>
            <a:br>
              <a:rPr sz="5400"/>
            </a:br>
            <a:endParaRPr b="1" lang="en-US" sz="48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90720" y="3279600"/>
            <a:ext cx="7974000" cy="395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55280" y="-108360"/>
            <a:ext cx="828036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Знаете ли вы, о ком данное высказывание? 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53960" y="1403280"/>
            <a:ext cx="7072200" cy="347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 вы считаете, каково лексическое значение слова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титель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берите однокоренные слова к данному слову.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читайте информационный материал, составьте интеллект- карту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тие  святых братье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2e3917"/>
                </a:solidFill>
                <a:latin typeface="Calibri"/>
              </a:rPr>
              <a:t>Правила составления интеллект- карты</a:t>
            </a:r>
            <a:endParaRPr b="1" lang="en-US" sz="40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5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ru-RU" sz="3500" spc="-1" strike="noStrike">
                <a:solidFill>
                  <a:srgbClr val="4f6228"/>
                </a:solidFill>
                <a:latin typeface="Calibri"/>
              </a:rPr>
              <a:t>Используйте цветные карандаши, маркеры.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500" spc="-1" strike="noStrike">
                <a:solidFill>
                  <a:srgbClr val="4f6228"/>
                </a:solidFill>
                <a:latin typeface="Calibri"/>
              </a:rPr>
              <a:t>Основная идея- в центре.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500" spc="-1" strike="noStrike">
                <a:solidFill>
                  <a:srgbClr val="4f6228"/>
                </a:solidFill>
                <a:latin typeface="Calibri"/>
              </a:rPr>
              <a:t>Каждая ветвь имеет свой цвет.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500" spc="-1" strike="noStrike">
                <a:solidFill>
                  <a:srgbClr val="4f6228"/>
                </a:solidFill>
                <a:latin typeface="Calibri"/>
              </a:rPr>
              <a:t>Над каждой ветвью –одно ключевое слово.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500" spc="-1" strike="noStrike">
                <a:solidFill>
                  <a:srgbClr val="4f6228"/>
                </a:solidFill>
                <a:latin typeface="Calibri"/>
              </a:rPr>
              <a:t>Составлять и читать карту-  по часовой стрелке.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2e3917"/>
                </a:solidFill>
                <a:latin typeface="Calibri"/>
              </a:rPr>
              <a:t>«Интеллект- карта» по теме «Житие  святых братьев»</a:t>
            </a:r>
            <a:endParaRPr b="1" lang="en-US" sz="3600" spc="-1" strike="noStrike">
              <a:solidFill>
                <a:srgbClr val="2e3917"/>
              </a:solidFill>
              <a:latin typeface="Calibri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2111400" y="1605960"/>
            <a:ext cx="7644960" cy="5550480"/>
            <a:chOff x="2111400" y="1605960"/>
            <a:chExt cx="7644960" cy="5550480"/>
          </a:xfrm>
        </p:grpSpPr>
        <p:sp>
          <p:nvSpPr>
            <p:cNvPr id="54" name="WordArt 5"/>
            <p:cNvSpPr txBox="1"/>
            <p:nvPr/>
          </p:nvSpPr>
          <p:spPr>
            <a:xfrm rot="2920200">
              <a:off x="2923200" y="2234160"/>
              <a:ext cx="2068200" cy="87300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 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24 мая -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праздник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5" name="WordArt 6"/>
            <p:cNvSpPr txBox="1"/>
            <p:nvPr/>
          </p:nvSpPr>
          <p:spPr>
            <a:xfrm>
              <a:off x="2111400" y="4176360"/>
              <a:ext cx="1905840" cy="43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Святы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6" name="WordArt 7"/>
            <p:cNvSpPr txBox="1"/>
            <p:nvPr/>
          </p:nvSpPr>
          <p:spPr>
            <a:xfrm rot="19227600">
              <a:off x="2669400" y="5686560"/>
              <a:ext cx="1986480" cy="57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70c0"/>
                  </a:solidFill>
                  <a:latin typeface="Arial Black"/>
                </a:rPr>
                <a:t>Переводы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7" name="WordArt 8"/>
            <p:cNvSpPr txBox="1"/>
            <p:nvPr/>
          </p:nvSpPr>
          <p:spPr>
            <a:xfrm rot="3039000">
              <a:off x="5254200" y="5904360"/>
              <a:ext cx="2078280" cy="42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 Black"/>
                </a:rPr>
                <a:t>Азбук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8" name="WordArt 9"/>
            <p:cNvSpPr txBox="1"/>
            <p:nvPr/>
          </p:nvSpPr>
          <p:spPr>
            <a:xfrm rot="19179600">
              <a:off x="5629680" y="2698920"/>
              <a:ext cx="1725480" cy="5338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70c0"/>
                  </a:solidFill>
                  <a:latin typeface="Arial Black"/>
                </a:rPr>
                <a:t>Македони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59" name="WordArt 10"/>
            <p:cNvSpPr txBox="1"/>
            <p:nvPr/>
          </p:nvSpPr>
          <p:spPr>
            <a:xfrm>
              <a:off x="6183000" y="4087440"/>
              <a:ext cx="2331000" cy="63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70c0"/>
                  </a:solidFill>
                  <a:latin typeface="Arial Black"/>
                </a:rPr>
                <a:t>Образовани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" name="WordArt 11"/>
            <p:cNvSpPr txBox="1"/>
            <p:nvPr/>
          </p:nvSpPr>
          <p:spPr>
            <a:xfrm rot="19861800">
              <a:off x="8306640" y="3352680"/>
              <a:ext cx="1398240" cy="57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b050"/>
                  </a:solidFill>
                  <a:latin typeface="Arial Black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b050"/>
                  </a:solidFill>
                  <a:latin typeface="Arial Black"/>
                </a:rPr>
                <a:t>военная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Arial Black"/>
                <a:ea typeface="Arial Black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b050"/>
                  </a:solidFill>
                  <a:latin typeface="Arial Black"/>
                </a:rPr>
                <a:t>служб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" name="WordArt 12"/>
            <p:cNvSpPr txBox="1"/>
            <p:nvPr/>
          </p:nvSpPr>
          <p:spPr>
            <a:xfrm rot="1893600">
              <a:off x="8610840" y="5078160"/>
              <a:ext cx="1113480" cy="190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b050"/>
                  </a:solidFill>
                  <a:latin typeface="Arial Black"/>
                </a:rPr>
                <a:t>книги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Arial Black"/>
                <a:ea typeface="Arial Black"/>
              </a:endParaRPr>
            </a:p>
          </p:txBody>
        </p:sp>
        <p:cxnSp>
          <p:nvCxnSpPr>
            <p:cNvPr id="62" name="AutoShape 13"/>
            <p:cNvCxnSpPr/>
            <p:nvPr/>
          </p:nvCxnSpPr>
          <p:spPr>
            <a:xfrm flipV="1">
              <a:off x="6008400" y="2535480"/>
              <a:ext cx="1364760" cy="1271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3" name="AutoShape 14"/>
            <p:cNvCxnSpPr/>
            <p:nvPr/>
          </p:nvCxnSpPr>
          <p:spPr>
            <a:xfrm flipV="1">
              <a:off x="6256440" y="4659480"/>
              <a:ext cx="2180160" cy="165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4" name="AutoShape 15"/>
            <p:cNvCxnSpPr/>
            <p:nvPr/>
          </p:nvCxnSpPr>
          <p:spPr>
            <a:xfrm>
              <a:off x="3005280" y="2345760"/>
              <a:ext cx="1175040" cy="1461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5" name="AutoShape 16"/>
            <p:cNvCxnSpPr/>
            <p:nvPr/>
          </p:nvCxnSpPr>
          <p:spPr>
            <a:xfrm flipV="1">
              <a:off x="2111400" y="4721400"/>
              <a:ext cx="1906560" cy="655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6" name="AutoShape 17"/>
            <p:cNvCxnSpPr/>
            <p:nvPr/>
          </p:nvCxnSpPr>
          <p:spPr>
            <a:xfrm flipV="1">
              <a:off x="3005280" y="5517360"/>
              <a:ext cx="1665360" cy="14713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7" name="AutoShape 18"/>
            <p:cNvCxnSpPr/>
            <p:nvPr/>
          </p:nvCxnSpPr>
          <p:spPr>
            <a:xfrm>
              <a:off x="5496120" y="5470200"/>
              <a:ext cx="1275120" cy="1686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8" name="AutoShape 19"/>
            <p:cNvCxnSpPr/>
            <p:nvPr/>
          </p:nvCxnSpPr>
          <p:spPr>
            <a:xfrm flipV="1">
              <a:off x="8660160" y="3632760"/>
              <a:ext cx="1065240" cy="7002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69" name="AutoShape 20"/>
            <p:cNvCxnSpPr/>
            <p:nvPr/>
          </p:nvCxnSpPr>
          <p:spPr>
            <a:xfrm>
              <a:off x="8573760" y="5016600"/>
              <a:ext cx="998640" cy="669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70" name="Oval 21"/>
            <p:cNvSpPr/>
            <p:nvPr/>
          </p:nvSpPr>
          <p:spPr>
            <a:xfrm>
              <a:off x="4087800" y="3388320"/>
              <a:ext cx="1970640" cy="20628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WordArt 22"/>
            <p:cNvSpPr txBox="1"/>
            <p:nvPr/>
          </p:nvSpPr>
          <p:spPr>
            <a:xfrm rot="998400">
              <a:off x="4179240" y="3502440"/>
              <a:ext cx="1829160" cy="183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irclePour">
                <a:avLst>
                  <a:gd name="adj1" fmla="val 10859997"/>
                  <a:gd name="adj2" fmla="val 50000"/>
                </a:avLst>
              </a:prstTxWarp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Unicode MS"/>
                </a:rPr>
                <a:t>   </a:t>
              </a:r>
              <a:r>
                <a:rPr b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Unicode MS"/>
                </a:rPr>
                <a:t>ЖИТИЕ   СВЯТЫХ  БРАТЬЕВ</a:t>
              </a:r>
              <a:endPara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Unicode MS"/>
                <a:ea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25600" y="208080"/>
            <a:ext cx="650088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2e3917"/>
                </a:solidFill>
                <a:uFillTx/>
                <a:latin typeface="Calibri"/>
              </a:rPr>
              <a:t>Подведение итогов работы с таблицей.</a:t>
            </a:r>
            <a:br>
              <a:rPr sz="3600"/>
            </a:br>
            <a:endParaRPr b="1" lang="en-US" sz="36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890720" y="2279160"/>
            <a:ext cx="7842240" cy="45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500" spc="-1" strike="noStrike">
                <a:solidFill>
                  <a:srgbClr val="4f6228"/>
                </a:solidFill>
                <a:latin typeface="Calibri"/>
              </a:rPr>
              <a:t>- Что из того, что вы услышали, было уже знакомо?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500" spc="-1" strike="noStrike">
                <a:solidFill>
                  <a:srgbClr val="4f6228"/>
                </a:solidFill>
                <a:latin typeface="Calibri"/>
              </a:rPr>
              <a:t>-Какие новые сведения вы узнали о просветительской деятельности Кирилла и Мефодия?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90720" y="-214200"/>
            <a:ext cx="784224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2e3917"/>
                </a:solidFill>
                <a:latin typeface="Calibri"/>
              </a:rPr>
              <a:t>«Просвещение славян. Кирилл и Мефодий» </a:t>
            </a:r>
            <a:endParaRPr b="1" lang="en-US" sz="40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890720" y="1811160"/>
            <a:ext cx="784224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500" spc="-1" strike="noStrike">
                <a:solidFill>
                  <a:srgbClr val="4f6228"/>
                </a:solidFill>
                <a:latin typeface="Calibri"/>
              </a:rPr>
              <a:t>- «толстые» (требующие  развернутого ответа) 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  <a:p>
            <a:pPr marL="343080" indent="-343080">
              <a:spcBef>
                <a:spcPts val="88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500" spc="-1" strike="noStrike">
                <a:solidFill>
                  <a:srgbClr val="4f6228"/>
                </a:solidFill>
                <a:latin typeface="Calibri"/>
              </a:rPr>
              <a:t>- «тонкие» (требующие односложного ответа)</a:t>
            </a:r>
            <a:endParaRPr b="0" lang="en-US" sz="3500" spc="-1" strike="noStrike">
              <a:solidFill>
                <a:srgbClr val="4f6228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397240" y="4637160"/>
          <a:ext cx="6929280" cy="1928880"/>
        </p:xfrm>
        <a:graphic>
          <a:graphicData uri="http://schemas.openxmlformats.org/drawingml/2006/table">
            <a:tbl>
              <a:tblPr/>
              <a:tblGrid>
                <a:gridCol w="3500280"/>
                <a:gridCol w="342900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олстые вопрос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онкие вопрос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47640" y="0"/>
            <a:ext cx="828036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Monotype Corsiva"/>
              </a:rPr>
              <a:t>Думаем, размышляем, предполагаем…</a:t>
            </a:r>
            <a:endParaRPr b="1" lang="en-US" sz="4400" spc="-1" strike="noStrike">
              <a:solidFill>
                <a:srgbClr val="2e391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90720" y="1403280"/>
            <a:ext cx="786456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887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57200" indent="0">
              <a:spcBef>
                <a:spcPts val="887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4f6228"/>
                </a:solidFill>
                <a:latin typeface="Calibri"/>
              </a:rPr>
              <a:t>Заполните таблицу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marL="457200" indent="0">
              <a:spcBef>
                <a:spcPts val="887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pic>
        <p:nvPicPr>
          <p:cNvPr id="79" name="Picture 4" descr="http://tse2.mm.bing.net/th?id=OIP.Md8da5e233e60b7d5d2ebf0899fc17021H1"/>
          <p:cNvPicPr/>
          <p:nvPr/>
        </p:nvPicPr>
        <p:blipFill>
          <a:blip r:embed="rId1"/>
          <a:stretch/>
        </p:blipFill>
        <p:spPr>
          <a:xfrm>
            <a:off x="1800360" y="27000"/>
            <a:ext cx="2206440" cy="205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2182680" y="3922560"/>
          <a:ext cx="6720120" cy="1279800"/>
        </p:xfrm>
        <a:graphic>
          <a:graphicData uri="http://schemas.openxmlformats.org/drawingml/2006/table">
            <a:tbl>
              <a:tblPr/>
              <a:tblGrid>
                <a:gridCol w="857520"/>
                <a:gridCol w="2857320"/>
                <a:gridCol w="3005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звестное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овое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5:47:31Z</dcterms:created>
  <dc:creator/>
  <dc:description/>
  <dc:language>en-US</dc:language>
  <cp:lastModifiedBy>наташа</cp:lastModifiedBy>
  <dcterms:modified xsi:type="dcterms:W3CDTF">2017-01-30T01:40:42Z</dcterms:modified>
  <cp:revision>75</cp:revision>
  <dc:subject/>
  <dc:title>Моё классное руководство </dc:title>
</cp:coreProperties>
</file>